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und012.wav" ContentType="audio/x-wav"/>
  <Override PartName="/ppt/media/image18.jpeg" ContentType="image/jpeg"/>
  <Override PartName="/ppt/media/image17.png" ContentType="image/png"/>
  <Override PartName="/ppt/media/sound002.wav" ContentType="audio/x-wav"/>
  <Override PartName="/ppt/media/sound010.wav" ContentType="audio/x-wav"/>
  <Override PartName="/ppt/media/image19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sound011.wav" ContentType="audio/x-wav"/>
  <Override PartName="/ppt/media/image13.jpeg" ContentType="image/jpeg"/>
  <Override PartName="/ppt/media/sound007.wav" ContentType="audio/x-wav"/>
  <Override PartName="/ppt/media/image21.jpeg" ContentType="image/jpeg"/>
  <Override PartName="/ppt/media/image28.jpeg" ContentType="image/jpeg"/>
  <Override PartName="/ppt/media/sound006.wav" ContentType="audio/x-wav"/>
  <Override PartName="/ppt/media/image23.png" ContentType="image/png"/>
  <Override PartName="/ppt/media/sound009.wav" ContentType="audio/x-wav"/>
  <Override PartName="/ppt/media/image24.jpeg" ContentType="image/jpeg"/>
  <Override PartName="/ppt/media/image3.jpeg" ContentType="image/jpeg"/>
  <Override PartName="/ppt/media/image7.jpeg" ContentType="image/jpeg"/>
  <Override PartName="/ppt/media/sound013.wav" ContentType="audio/x-wav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29.jpeg" ContentType="image/jpeg"/>
  <Override PartName="/ppt/media/image8.jpeg" ContentType="image/jpeg"/>
  <Override PartName="/ppt/media/image22.wmf" ContentType="image/x-wmf"/>
  <Override PartName="/ppt/media/image20.jpeg" ContentType="image/jpeg"/>
  <Override PartName="/ppt/media/sound004.wav" ContentType="audio/x-wav"/>
  <Override PartName="/ppt/media/image4.png" ContentType="image/png"/>
  <Override PartName="/ppt/media/image12.wmf" ContentType="image/x-wmf"/>
  <Override PartName="/ppt/media/image10.png" ContentType="image/png"/>
  <Override PartName="/ppt/media/image1.jpeg" ContentType="image/jpeg"/>
  <Override PartName="/ppt/media/image2.jpeg" ContentType="image/jpeg"/>
  <Override PartName="/ppt/media/sound001.wav" ContentType="audio/x-wav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FF1-CC63-4749-8147-EAD243D1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A5D-C5E4-4054-8AD8-5271D53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8E9-1F8A-43DB-B05C-894EEC8F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272-C952-40F1-BEB7-D0C20D59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3F1-760D-4FE8-8C27-011812B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D3D-7B5F-46F3-8A01-671A3105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701-108E-4FA2-8BD3-C0BD1D10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273-AD7E-413E-8314-3AFA3DB4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EAD-FCA2-4731-8A26-8CD12D1F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064-A3EA-49D9-9B0B-297FAC8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B0F-3C14-4C5C-B9E3-4B61455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4FB-08BB-434E-9B11-1EE32B9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505-F947-41DD-8C56-FACF299D98E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sound010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sound01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sound012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ound013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ound006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ound007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audio" Target="../media/sound009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762012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9900"/>
                </a:solidFill>
                <a:uFillTx/>
                <a:latin typeface="Arial Black"/>
              </a:rPr>
              <a:t>Дикие животные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Семернякова С.Н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АДОУ д/с №15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35080" y="6093000"/>
            <a:ext cx="8762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любит морковку, яблоки и капусту. Еще ест  разную траву, тонкие веточки, кору, семена , ягод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4" descr="chewing_rabbit"/>
          <p:cNvPicPr/>
          <p:nvPr/>
        </p:nvPicPr>
        <p:blipFill>
          <a:blip r:embed="rId1"/>
          <a:stretch/>
        </p:blipFill>
        <p:spPr>
          <a:xfrm>
            <a:off x="235080" y="947880"/>
            <a:ext cx="4678200" cy="405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ountain_Hare_Scotland"/>
          <p:cNvPicPr/>
          <p:nvPr/>
        </p:nvPicPr>
        <p:blipFill>
          <a:blip r:embed="rId2"/>
          <a:stretch/>
        </p:blipFill>
        <p:spPr>
          <a:xfrm>
            <a:off x="5076720" y="333360"/>
            <a:ext cx="3924360" cy="317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Cj04133120000[1]"/>
          <p:cNvPicPr/>
          <p:nvPr/>
        </p:nvPicPr>
        <p:blipFill>
          <a:blip r:embed="rId3"/>
          <a:stretch/>
        </p:blipFill>
        <p:spPr>
          <a:xfrm>
            <a:off x="5796000" y="4597560"/>
            <a:ext cx="2986200" cy="849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MCj01122960000[1]"/>
          <p:cNvPicPr/>
          <p:nvPr/>
        </p:nvPicPr>
        <p:blipFill>
          <a:blip r:embed="rId4"/>
          <a:stretch/>
        </p:blipFill>
        <p:spPr>
          <a:xfrm>
            <a:off x="5364000" y="3716280"/>
            <a:ext cx="238140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5280" y="621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живет в норке, которую роет в кустах, так он прячется от хищников – волка и лис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2309760" y="1038240"/>
            <a:ext cx="520704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3" descr="MPj04068650000[1]"/>
          <p:cNvPicPr/>
          <p:nvPr/>
        </p:nvPicPr>
        <p:blipFill>
          <a:blip r:embed="rId1"/>
          <a:stretch/>
        </p:blipFill>
        <p:spPr>
          <a:xfrm>
            <a:off x="179280" y="115920"/>
            <a:ext cx="4014720" cy="6021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и живут стаями,  самый сильный и смелый волк – это вожак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MPj03995270000[1]"/>
          <p:cNvPicPr/>
          <p:nvPr/>
        </p:nvPicPr>
        <p:blipFill>
          <a:blip r:embed="rId2"/>
          <a:stretch/>
        </p:blipFill>
        <p:spPr>
          <a:xfrm>
            <a:off x="4427640" y="2781360"/>
            <a:ext cx="450036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41920" y="260280"/>
            <a:ext cx="4402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3" descr="red_wolf"/>
          <p:cNvPicPr/>
          <p:nvPr/>
        </p:nvPicPr>
        <p:blipFill>
          <a:blip r:embed="rId1"/>
          <a:stretch/>
        </p:blipFill>
        <p:spPr>
          <a:xfrm>
            <a:off x="5435640" y="981000"/>
            <a:ext cx="3294000" cy="493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0" y="595008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пециального дома у волка нет, они могут жить в расщелине скалы или зарослях кустарника, но когда они выводят потомство устраивают логов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5" descr="volk"/>
          <p:cNvPicPr/>
          <p:nvPr/>
        </p:nvPicPr>
        <p:blipFill>
          <a:blip r:embed="rId2"/>
          <a:stretch/>
        </p:blipFill>
        <p:spPr>
          <a:xfrm>
            <a:off x="179280" y="189000"/>
            <a:ext cx="480852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2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8360" y="5942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 – хищник, охотится ночью. Ест мясо, птицу, любит рыбу. Когда нет добычи, волки едят ягоды, фрукты и даже грибы. Ночью можно услышать, как воет волк на лун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4" descr="MCj03323060000[1]"/>
          <p:cNvPicPr/>
          <p:nvPr/>
        </p:nvPicPr>
        <p:blipFill>
          <a:blip r:embed="rId1"/>
          <a:stretch/>
        </p:blipFill>
        <p:spPr>
          <a:xfrm flipH="1">
            <a:off x="250560" y="1413000"/>
            <a:ext cx="3924360" cy="4249440"/>
          </a:xfrm>
          <a:prstGeom prst="rect">
            <a:avLst/>
          </a:prstGeom>
          <a:ln w="0">
            <a:noFill/>
          </a:ln>
        </p:spPr>
      </p:pic>
      <p:pic>
        <p:nvPicPr>
          <p:cNvPr id="92" name="MSj02363.wav" descr=""/>
          <p:cNvPicPr/>
          <p:nvPr/>
        </p:nvPicPr>
        <p:blipFill>
          <a:blip r:embed="rId2"/>
          <a:stretch/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j02628510000[1]"/>
          <p:cNvPicPr/>
          <p:nvPr/>
        </p:nvPicPr>
        <p:blipFill>
          <a:blip r:embed="rId3"/>
          <a:stretch/>
        </p:blipFill>
        <p:spPr>
          <a:xfrm>
            <a:off x="4932360" y="260280"/>
            <a:ext cx="3692520" cy="5567400"/>
          </a:xfrm>
          <a:prstGeom prst="rect">
            <a:avLst/>
          </a:prstGeom>
          <a:ln w="0">
            <a:noFill/>
          </a:ln>
        </p:spPr>
      </p:pic>
      <p:pic>
        <p:nvPicPr>
          <p:cNvPr id="94" name="Запи2378.WAV" descr=""/>
          <p:cNvPicPr/>
          <p:nvPr/>
        </p:nvPicPr>
        <p:blipFill>
          <a:blip r:embed="rId4"/>
          <a:stretch/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95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33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Рисунок 2" descr="wolfiki-2.jpg"/>
          <p:cNvPicPr/>
          <p:nvPr/>
        </p:nvPicPr>
        <p:blipFill>
          <a:blip r:embed="rId1"/>
          <a:stretch/>
        </p:blipFill>
        <p:spPr>
          <a:xfrm>
            <a:off x="1571760" y="2357280"/>
            <a:ext cx="60246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85880" y="52149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Ёж живет в норе собранной из разных веточек и листочков. Едят ёжики фрукты и ягоды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Рисунок 3" descr="Фото-4-Еж-выглядывает-из-норы.jpg"/>
          <p:cNvPicPr/>
          <p:nvPr/>
        </p:nvPicPr>
        <p:blipFill>
          <a:blip r:embed="rId1"/>
          <a:stretch/>
        </p:blipFill>
        <p:spPr>
          <a:xfrm>
            <a:off x="1785960" y="1357200"/>
            <a:ext cx="5357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ха с ежатам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Рисунок 2" descr="foto-Vladimir_Medvedev_1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532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Рисунок 2" descr="Lisa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4240" y="54291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сицы – это хищники, поэтому их основной рацион состоит из животной пищи. Лисы роют в земле глубокие норы с узкими ходами, на холмах защищенных густой траво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Рисунок 3" descr="nora-lisy.jpg"/>
          <p:cNvPicPr/>
          <p:nvPr/>
        </p:nvPicPr>
        <p:blipFill>
          <a:blip r:embed="rId1"/>
          <a:stretch/>
        </p:blipFill>
        <p:spPr>
          <a:xfrm>
            <a:off x="2190600" y="1909800"/>
            <a:ext cx="47628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1280" y="573408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Verdana"/>
              </a:rPr>
              <a:t>Бурый медведь живет в лесу, любит лазить по деревьям. Несмотря на неуклюжесть,  может быстро бегать и хорошо плавает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P0101901"/>
          <p:cNvPicPr/>
          <p:nvPr/>
        </p:nvPicPr>
        <p:blipFill>
          <a:blip r:embed="rId1"/>
          <a:stretch/>
        </p:blipFill>
        <p:spPr>
          <a:xfrm>
            <a:off x="1116000" y="1379520"/>
            <a:ext cx="7128000" cy="402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12880" y="57326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Verdana"/>
              </a:rPr>
              <a:t>Медведь всеядное животное. Любимые его лакомства - мед и малина. А еще Бурый Медведь отличный рыболов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4" descr="MPj01803940000[1]"/>
          <p:cNvPicPr/>
          <p:nvPr/>
        </p:nvPicPr>
        <p:blipFill>
          <a:blip r:embed="rId1"/>
          <a:stretch/>
        </p:blipFill>
        <p:spPr>
          <a:xfrm>
            <a:off x="812880" y="990720"/>
            <a:ext cx="482580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Picture 5" descr="MPj04066830000[1]"/>
          <p:cNvPicPr/>
          <p:nvPr/>
        </p:nvPicPr>
        <p:blipFill>
          <a:blip r:embed="rId2"/>
          <a:stretch/>
        </p:blipFill>
        <p:spPr>
          <a:xfrm>
            <a:off x="5003640" y="990720"/>
            <a:ext cx="331344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AutoShape 3"/>
          <p:cNvSpPr/>
          <p:nvPr/>
        </p:nvSpPr>
        <p:spPr>
          <a:xfrm rot="16200000">
            <a:off x="600480" y="1027440"/>
            <a:ext cx="4162680" cy="536400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4"/>
          <p:cNvSpPr/>
          <p:nvPr/>
        </p:nvSpPr>
        <p:spPr>
          <a:xfrm rot="16200000">
            <a:off x="1495440" y="3144240"/>
            <a:ext cx="2212920" cy="3070440"/>
          </a:xfrm>
          <a:prstGeom prst="flowChartDelay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580536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Медведь живет в берлоге. Всю зиму он спит в своем доме, живет за счет накопленных жировых запасов. Весной бурый медведь просыпает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AutoShape 7"/>
          <p:cNvSpPr/>
          <p:nvPr/>
        </p:nvSpPr>
        <p:spPr>
          <a:xfrm rot="16200000">
            <a:off x="1962000" y="-404640"/>
            <a:ext cx="1511280" cy="5435640"/>
          </a:xfrm>
          <a:prstGeom prst="flowChartDelay">
            <a:avLst/>
          </a:prstGeom>
          <a:gradFill rotWithShape="0">
            <a:gsLst>
              <a:gs pos="0">
                <a:srgbClr val="33cc33"/>
              </a:gs>
              <a:gs pos="50000">
                <a:srgbClr val="339933"/>
              </a:gs>
              <a:gs pos="100000">
                <a:srgbClr val="33cc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1944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дведь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Рисунок 2" descr="1267271699_gti8svn7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6596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1280" y="5950080"/>
            <a:ext cx="88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а живет в лесу, но иногда ее можно встретить в парке. Такие белки не боятся человека и могут взять у него из рук орешек. Арахис и семечки подсолнуха белкам лучше не давать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5" descr="729px-MattiParkkonen_Orava"/>
          <p:cNvPicPr/>
          <p:nvPr/>
        </p:nvPicPr>
        <p:blipFill>
          <a:blip r:embed="rId1"/>
          <a:stretch/>
        </p:blipFill>
        <p:spPr>
          <a:xfrm>
            <a:off x="1620720" y="1009800"/>
            <a:ext cx="5902560" cy="485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31920" y="5157720"/>
            <a:ext cx="88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и – всеядные животные, любят лакомиться орехами, грибами, ягодами, семенами. Весной питаются почками деревьев. Иногда едят насекомых, лягушек и небольших птиц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Дупло – домик для белочки, там она хранит запасы на зиму. А бывает, что закапывает орехи в земл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4" descr="MPj04064860000[1]"/>
          <p:cNvPicPr/>
          <p:nvPr/>
        </p:nvPicPr>
        <p:blipFill>
          <a:blip r:embed="rId1"/>
          <a:stretch/>
        </p:blipFill>
        <p:spPr>
          <a:xfrm>
            <a:off x="477720" y="765000"/>
            <a:ext cx="7643880" cy="439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Рисунок 2" descr="hqdefault.jpg"/>
          <p:cNvPicPr/>
          <p:nvPr/>
        </p:nvPicPr>
        <p:blipFill>
          <a:blip r:embed="rId1"/>
          <a:stretch/>
        </p:blipFill>
        <p:spPr>
          <a:xfrm>
            <a:off x="1714680" y="1500120"/>
            <a:ext cx="56196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3" descr="Brown_Hare"/>
          <p:cNvPicPr/>
          <p:nvPr/>
        </p:nvPicPr>
        <p:blipFill>
          <a:blip r:embed="rId1"/>
          <a:stretch/>
        </p:blipFill>
        <p:spPr>
          <a:xfrm>
            <a:off x="1692360" y="3182760"/>
            <a:ext cx="3382920" cy="25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rabbits"/>
          <p:cNvPicPr/>
          <p:nvPr/>
        </p:nvPicPr>
        <p:blipFill>
          <a:blip r:embed="rId2"/>
          <a:stretch/>
        </p:blipFill>
        <p:spPr>
          <a:xfrm>
            <a:off x="6227640" y="115920"/>
            <a:ext cx="275904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0" y="58053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самое пугливое животное. Чуть услышит какой шорох – сразу бежать – он отличный спортсмен! Летом заяц серый, а зимой меняет шубку на белый цв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Hare"/>
          <p:cNvPicPr/>
          <p:nvPr/>
        </p:nvPicPr>
        <p:blipFill>
          <a:blip r:embed="rId3"/>
          <a:stretch/>
        </p:blipFill>
        <p:spPr>
          <a:xfrm>
            <a:off x="5867280" y="3789360"/>
            <a:ext cx="2952720" cy="180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CAN00647_0000[1]"/>
          <p:cNvPicPr/>
          <p:nvPr/>
        </p:nvPicPr>
        <p:blipFill>
          <a:blip r:embed="rId4"/>
          <a:stretch/>
        </p:blipFill>
        <p:spPr>
          <a:xfrm>
            <a:off x="250920" y="565200"/>
            <a:ext cx="2665440" cy="20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0:15Z</dcterms:created>
  <dc:creator>дима</dc:creator>
  <dc:description/>
  <dc:language>en-US</dc:language>
  <cp:lastModifiedBy>RePack by Diakov</cp:lastModifiedBy>
  <dcterms:modified xsi:type="dcterms:W3CDTF">2020-06-22T16:15:08Z</dcterms:modified>
  <cp:revision>50</cp:revision>
  <dc:subject/>
  <dc:title>Дикие животные   «жители леса»  часть 1</dc:title>
</cp:coreProperties>
</file>